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04C7D-FB21-451F-B16D-FB6DB670C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92D19-522A-4475-86C1-81EF82A27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6B854-97BB-4E48-8438-9D8FCF562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5A429-8589-4FCD-A7C8-65C7AC9AF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3F85-BE2E-4440-8F3E-15638EE39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097D-E6CA-4F28-84B0-2BF900CD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ED96-9CDE-4A89-A27E-E7A2A6BA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1D3C-BFC3-4FC4-96E7-90FAF05CC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06968-04D4-4895-82BD-C54E3AE31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8336C-89FB-4F95-85A2-AA3087E1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99152-E0E7-4423-845E-4EBF2BB3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EBD46-D46A-453E-BE46-3CEFC45F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92978-D5B1-4CAD-80AB-2C511DCE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8566F-F480-44D1-A745-D01C3116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A8741-E3EC-4B07-B972-D43F7A00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8E8A-B128-4AD5-AE74-4E634CEB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D185B-F75F-46C0-A5FA-C0CAE15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AA04A-C48B-4A87-9EE6-CDBE6B36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6ED0B-D553-4947-B848-55D86D97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1CDD9-AD63-46F4-AF88-F568063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69497-51F9-410E-98CB-2DA0FF29E2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652E-70F1-4C5F-A595-7C4A2622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0B0E-E65F-43F6-BE63-FBC5C398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E2C0-D5A3-4D27-AF5F-57223D90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725C-C0B8-4024-8266-B48476A9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1737-AB74-4711-980A-3551D13B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ADA0-AE90-4B17-90EF-811D682E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EB9D-44F8-4998-9021-4E4C45A2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3880" y="3602160"/>
            <a:ext cx="91425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594E0-77D1-4493-9D5D-13213C74D0EE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4680"/>
            <a:ext cx="1219212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F18E9-EDBB-49FB-AEEE-2F226A320EF0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Заголовок 1"/>
          <p:cNvGrpSpPr/>
          <p:nvPr/>
        </p:nvGrpSpPr>
        <p:grpSpPr>
          <a:xfrm>
            <a:off x="676440" y="1073160"/>
            <a:ext cx="11052000" cy="3425760"/>
            <a:chOff x="676440" y="1073160"/>
            <a:chExt cx="11052000" cy="3425760"/>
          </a:xfrm>
        </p:grpSpPr>
        <p:pic>
          <p:nvPicPr>
            <p:cNvPr id="9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76440" y="1073160"/>
              <a:ext cx="1105200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38360" y="1106640"/>
              <a:ext cx="1092960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фекты оказания медицинской помощи, выявленные ООО «СМК «РЕСО-Мед»  и ООО «МСК «МЕДСТРАХ» в ГБУЗ МО «Балашихинская областная больница» 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6 месяцев 20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4"/>
          <p:cNvSpPr/>
          <p:nvPr/>
        </p:nvSpPr>
        <p:spPr>
          <a:xfrm>
            <a:off x="738360" y="4633920"/>
            <a:ext cx="1092960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управления медицинской экспертиз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ой области ООО «СМК РЕСО-Мед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м.н. Супрун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6"/>
          <p:cNvGrpSpPr/>
          <p:nvPr/>
        </p:nvGrpSpPr>
        <p:grpSpPr>
          <a:xfrm>
            <a:off x="603360" y="5827680"/>
            <a:ext cx="11125080" cy="665280"/>
            <a:chOff x="603360" y="5827680"/>
            <a:chExt cx="11125080" cy="665280"/>
          </a:xfrm>
        </p:grpSpPr>
        <p:pic>
          <p:nvPicPr>
            <p:cNvPr id="95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03360" y="5827680"/>
              <a:ext cx="11125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66720" y="5859360"/>
              <a:ext cx="110012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нтябрь 2021 г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2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Объект 3"/>
          <p:cNvGrpSpPr/>
          <p:nvPr/>
        </p:nvGrpSpPr>
        <p:grpSpPr>
          <a:xfrm>
            <a:off x="712800" y="762120"/>
            <a:ext cx="10620360" cy="6456240"/>
            <a:chOff x="712800" y="762120"/>
            <a:chExt cx="10620360" cy="6456240"/>
          </a:xfrm>
        </p:grpSpPr>
        <p:pic>
          <p:nvPicPr>
            <p:cNvPr id="117" name="Объект 3" descr=""/>
            <p:cNvPicPr/>
            <p:nvPr/>
          </p:nvPicPr>
          <p:blipFill>
            <a:blip r:embed="rId1"/>
            <a:stretch/>
          </p:blipFill>
          <p:spPr>
            <a:xfrm>
              <a:off x="712800" y="762120"/>
              <a:ext cx="10620360" cy="64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952560" y="1000080"/>
              <a:ext cx="1014408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8000" spc="-1" strike="noStrike">
                  <a:solidFill>
                    <a:srgbClr val="262699"/>
                  </a:solidFill>
                  <a:latin typeface="Times New Roman"/>
                  <a:ea typeface="Times New Roman"/>
                </a:rPr>
                <a:t>Спасибо за внимание!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160" y="692280"/>
            <a:ext cx="103503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инятых на оплату реестров счетов в ООО «СМК «РЕСО-Мед» от ГБУЗ МО «Балашихинская областная больница» - 228 923медицинских услуг на сумму 480 687 397,00 руб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25520" y="3719520"/>
            <a:ext cx="10783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инятых на оплату реестров счетов 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ГБУЗ МО «Балашихинская областная больниц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7 169 медицинских услуг на сумму 81 516 219,00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6760" y="620280"/>
            <a:ext cx="1079820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РЕСО-Мед» организованы и проведены контрольно-экспертные мероприятия за период январь – июнь 2021 го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ко-экономическая  экспертиза - 40 300 страховым случаям, что составило 17,6 % от общего количества принятых к оплате счет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тиза качества медицинской помощи – 6 554 случаев (2,9% от общего количества принятых к оплате сче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657360" y="3429000"/>
            <a:ext cx="104407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ы и проведены контрольно-экспертные мероприятия за период январь – июнь 2021 го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ко-экономическая  экспертиза – 7 430 страховым случаев, что составило 15,8 % от общего количества принятых к оплате счет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тиза качества медицинской помощи – 1 286 случаев (2,7% от общего количества принятых к оплате сч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0600" y="836640"/>
            <a:ext cx="11230200" cy="60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контрольно-экспертных мероприятий за период январь – июнь 2021 год выявлены нарушени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РЕСО-Мед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 151страховом случае (1,8 % от общего количества проверенных случаев) на сумму  финансовых санкций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ржания  - 20 082 868,80 рубл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трафы – 195 111,33 рубле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ы нарушения в 963 случаях (2,1 % от общего количества проверенных случаев) на сумму  финансовых санкций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ржания  - 3 916 636,00 рубл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трафы – 52 074,36 рублей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20280"/>
            <a:ext cx="11018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количество выявленных нарушений при оказании медицинской помощ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БУЗ МО «Балашихинская областная больница» за 6 месяцев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46000" y="1736640"/>
          <a:ext cx="4673880" cy="4500720"/>
        </p:xfrm>
        <a:graphic>
          <a:graphicData uri="http://schemas.openxmlformats.org/drawingml/2006/table">
            <a:tbl>
              <a:tblPr/>
              <a:tblGrid>
                <a:gridCol w="965160"/>
                <a:gridCol w="1252800"/>
                <a:gridCol w="1349280"/>
                <a:gridCol w="1106640"/>
              </a:tblGrid>
              <a:tr h="456120"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еф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ефек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держ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сан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111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5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908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 532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 9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484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 56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584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12,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836 81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56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6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 10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18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240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 351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40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80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3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 03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94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 245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940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45 39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43 68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636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11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13,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32 01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309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16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 821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82 868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111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ик 4"/>
          <p:cNvSpPr/>
          <p:nvPr/>
        </p:nvSpPr>
        <p:spPr>
          <a:xfrm>
            <a:off x="1640880" y="1387440"/>
            <a:ext cx="292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«РЕСО-Ме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7103880" y="1387440"/>
            <a:ext cx="309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613560" y="1728720"/>
          <a:ext cx="4522680" cy="4500720"/>
        </p:xfrm>
        <a:graphic>
          <a:graphicData uri="http://schemas.openxmlformats.org/drawingml/2006/table">
            <a:tbl>
              <a:tblPr/>
              <a:tblGrid>
                <a:gridCol w="960480"/>
                <a:gridCol w="1243080"/>
                <a:gridCol w="1199880"/>
                <a:gridCol w="1119240"/>
              </a:tblGrid>
              <a:tr h="428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еф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еф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держ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са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6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565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20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4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38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18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0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7 82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 657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599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7 716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 90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5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37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32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 77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7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16 63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7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620640"/>
            <a:ext cx="11018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явленных дефектов в структуре нарушений при оказании медицинской помощ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БУЗ МО «Балашихинская областная больница» за 6 месяцев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609200" y="1738440"/>
            <a:ext cx="292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«РЕСО-Ме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501320" y="1744560"/>
            <a:ext cx="309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Диаграмма 10" descr=""/>
          <p:cNvPicPr/>
          <p:nvPr/>
        </p:nvPicPr>
        <p:blipFill>
          <a:blip r:embed="rId1"/>
          <a:stretch/>
        </p:blipFill>
        <p:spPr>
          <a:xfrm>
            <a:off x="480960" y="1554120"/>
            <a:ext cx="5181480" cy="4468680"/>
          </a:xfrm>
          <a:prstGeom prst="rect">
            <a:avLst/>
          </a:prstGeom>
          <a:ln w="0">
            <a:noFill/>
          </a:ln>
        </p:spPr>
      </p:pic>
      <p:pic>
        <p:nvPicPr>
          <p:cNvPr id="111" name="Диаграмма 11" descr=""/>
          <p:cNvPicPr/>
          <p:nvPr/>
        </p:nvPicPr>
        <p:blipFill>
          <a:blip r:embed="rId2"/>
          <a:stretch/>
        </p:blipFill>
        <p:spPr>
          <a:xfrm>
            <a:off x="5883120" y="2206800"/>
            <a:ext cx="582804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550800" y="836640"/>
            <a:ext cx="1087452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четный период контрольно – экспертные мероприятия проводились в соответствии с действующими нормативно – правовыми ак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каз Федерального фонда обязательного медицинского страхования от 28.02.2019 № 36 «Об утверждении Порядка организации и проведения контроля объемов, сроков, качества и условий предоставления медицинской помощи по обязательному медицинскому страхованию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каз Министерства здравоохранения Российской Федерации от 19.03.2021 № 231н «Об утверждении порядка проведения контроля объемов, сроков, качества и условий предоставления медицинской помощи по обязательному медицинскому страхованию застрахованным лицам, а также ее финансового обеспечения», вступил в силу 26.05.202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50800" y="981000"/>
            <a:ext cx="110901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выявляемые деф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дефекта 3.2.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невыполнение, несвоевременное или ненадлежащее выполнение необходимых пациенту диагностических и (или) лечебных мероприятий, оперативных вмешательств в соответствии с порядками оказания медицинской помощи, на основе клинических рекомендаций и с учетом стандартов медицинской помощи: не повлиявшее на состояние здоровья застрахованного лиц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дефекта 4.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отсутствие в медицинской документации результатов обследований, осмотров, консультаций специалистов, дневниковых записей, позволяющих оценить динамику состояния здоровья застрахованного лица, объем, характер, условия предоставления медицинской помощи и провести оценку качества оказанной медицинской помощ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50800" y="981000"/>
            <a:ext cx="11017440" cy="47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о ГБУЗ МО «Балашихинская областная больница»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дицинскую помощь оказывать в соответствии со ст. 37 Федерального закона от 21.11.2011 № 323-ФЗ «Об основах охраны здоровья граждан в Российской Федерации» с учетом порядков и стандартов медицинской помощи, утвержденных уполномоченным федеральным органом исполнительной   власти   и  обязательными   для   исполнения   на территории Российской Федерации всеми медицинскими организациями на основе клинических рекомендаци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лжным образом оформлять первичную медицинскую докум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0</TotalTime>
  <Application>LibreOffice/7.4.7.2$Linux_X86_64 LibreOffice_project/40$Build-2</Application>
  <AppVersion>15.0000</AppVersion>
  <Company>ЗАО Страховая группа "УРАЛСИБ"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21T04:54:57Z</dcterms:created>
  <dc:creator>Администратор</dc:creator>
  <dc:description/>
  <cp:keywords/>
  <dc:language>en-US</dc:language>
  <cp:lastModifiedBy>Супрун Елена Владимировна</cp:lastModifiedBy>
  <cp:lastPrinted>2017-06-28T08:39:07Z</cp:lastPrinted>
  <dcterms:modified xsi:type="dcterms:W3CDTF">2021-09-21T13:25:56Z</dcterms:modified>
  <cp:revision>30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Широкоэкран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9</vt:r8>
  </property>
</Properties>
</file>